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0B3-22E2-4EF0-9451-8FD6D52F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15D-423B-4D0A-978C-8E06DC35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BC5-3393-4107-BDAD-1E558EDF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77C-4206-4D58-801C-79E119C5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A37-401A-4949-99AA-F204BCB9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25D9-03B7-4FB5-8385-BCFC892A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3E60-58A0-499E-8F3E-F9D512E0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2AC-AB4F-4FD7-A8E4-67A2384B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90B-8E3C-4A3F-AEB2-1F1928E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73B-A88E-4C35-A591-49F77781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356-6FF7-4300-AA72-D9C6108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B1A-09AC-471A-96B7-06027828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E0E-70F2-464D-AEB4-72A0A61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0914-2879-4D95-BEE6-367B385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2125-D54F-4940-A58A-1BA6BBD2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A15F-8287-473F-B781-C1370366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894B-F595-4F69-BD5E-7976518E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964-4D47-4F23-A39C-75E0DE65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C4D-DC21-41F2-85A8-E787B8F5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DFD-E4B9-4241-A1D7-F234278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A73-0436-4C76-AF00-2C38CF0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CFA-330F-4F7E-BDD2-B5D199D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C06-0655-48F4-BB08-4986672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E0F-ED77-41CB-9B9D-9039729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0A8C-B601-42F9-A7DE-3B88A2BC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D80-EAE2-40DF-8EA8-691E0DF17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lended retirement plan with two choic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2 –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828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749"/>
              </a:spcBef>
              <a:tabLst>
                <a:tab algn="l" pos="0"/>
                <a:tab algn="l" pos="2292480"/>
                <a:tab algn="l" pos="3938760"/>
                <a:tab algn="dec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 for $1 company match (same as Option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67984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ddition match base on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25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35-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50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45-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75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50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0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676520"/>
            <a:ext cx="762012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ge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 at ag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to age 90 (Total 42 year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Savings Balance of $3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Contributions to 401(k)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401(k) Contrib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% per year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ay increase 5% per year </a:t>
            </a:r>
            <a:r>
              <a:rPr b="0" lang="en-US" sz="2400" spc="-1" strike="noStrike">
                <a:solidFill>
                  <a:srgbClr val="00b800"/>
                </a:solidFill>
                <a:latin typeface="Arial"/>
              </a:rPr>
              <a:t>(Green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W Base Increases 4% per year** </a:t>
            </a:r>
            <a:r>
              <a:rPr b="0" lang="en-US" sz="2400" spc="-1" strike="noStrike">
                <a:solidFill>
                  <a:srgbClr val="00b800"/>
                </a:solidFill>
                <a:latin typeface="Arial"/>
              </a:rPr>
              <a:t>(Green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ttp://beginnersinvest.about.com/od/401k/a/aa122104a_4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http://www.ssa.gov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057400"/>
            <a:ext cx="69343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invested in index fund to give return that is distributed (fit) to historical stock market return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 of Pension Plan payout based on i=6% for n=25 years (to age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ttp://pages.stern.nyu.edu/~adamodar/pc/datasets/histretSP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preadsheet model to simulate the two 401(k) Options to ag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100,000 iterations of the two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NPV of the Pension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he two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plan that offers the highest p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798480"/>
            <a:ext cx="73152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61048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328760"/>
            <a:ext cx="769608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7953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1600" y="6172200"/>
            <a:ext cx="80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pages.stern.nyu.edu/~adamodar/pc/datasets/histretSP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stal Ball - Distrib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52388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Extreme distribution with parameter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li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411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– Option 1 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14400" y="1905120"/>
            <a:ext cx="7162920" cy="38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907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1(k) Matched $1 for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424400"/>
            <a:ext cx="2514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,173,88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omponents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Pens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 Plan – 401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into Two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1 – More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2 – More 401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14400" y="1905120"/>
            <a:ext cx="7162920" cy="3871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– Option 2 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7913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1(k) Matched $1.25 - $2.00 Based on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419720"/>
            <a:ext cx="2514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,361,53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1981080"/>
            <a:ext cx="4190760" cy="3498840"/>
            <a:chOff x="304920" y="1981080"/>
            <a:chExt cx="4190760" cy="34988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04920" y="2428920"/>
              <a:ext cx="4190760" cy="305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380880" y="19810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on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1981080"/>
            <a:ext cx="4190760" cy="3498840"/>
            <a:chOff x="4648320" y="1981080"/>
            <a:chExt cx="4190760" cy="349884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4648320" y="2428920"/>
              <a:ext cx="4190760" cy="305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>
              <a:off x="4724280" y="19810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on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- Pen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828800"/>
            <a:ext cx="3962520" cy="3733920"/>
            <a:chOff x="380880" y="1828800"/>
            <a:chExt cx="3962520" cy="37339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990720" y="2209680"/>
              <a:ext cx="25002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80880" y="18288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ata Set (Last 120 Months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495680" y="1523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%) Final Average Pay – (0.5%) Social Security Taxable Wage Base  x (n) Years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2670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%) Final Average Pay x (n) Years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97180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%) $278,749 / 12 – (0.5%) $183,492 / 12  x (20) Years of Service =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$7,763.00 /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%) $278,749 /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20) Years of Service =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$4,646.00 /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- Combin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801800"/>
            <a:ext cx="66294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% Pension Pl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 for $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Reduced by an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 Pens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01(k)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.25 - $2.00 for every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Based on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Factors for Further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200,000 Max Salary + 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60,000 Max annual pension p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+ 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Retirement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pays for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to 50% for life of 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Factors for Further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payout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(50-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ife 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and Life 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Joint and Survivor Annu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1(k) inve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are numerous factors that could determine which option is better for you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rrent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ge at reti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ge at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tribution to 401(k) (Max – m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se pay versus SS Taxable Wa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y increases / 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vestment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% Pension Pl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 for $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Reduced by an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 Pens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01(k)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.25 - $2.00 for every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Based on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% of the Average of Highest 36 Consecutive Months of Pay in the last 120 Month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0.5% of the less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 Years of Service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200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0.5% of the less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267080" y="1600200"/>
          <a:ext cx="4267080" cy="4381560"/>
        </p:xfrm>
        <a:graphic>
          <a:graphicData uri="http://schemas.openxmlformats.org/drawingml/2006/table">
            <a:tbl>
              <a:tblPr/>
              <a:tblGrid>
                <a:gridCol w="1698480"/>
                <a:gridCol w="2568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2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3520" y="6110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www.s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99040" y="1523880"/>
            <a:ext cx="2043360" cy="4724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2286000"/>
            <a:ext cx="4724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based on 4% increase each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10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www.s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91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SSTWB will be the less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%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.5%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47560" y="36572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Final Base Pay $12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 ($10,000) – 0.5% ($8,000) x 10 years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- $40 x 10 = $1,600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6% Pension Benefit (4% 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2 – Pension Benef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872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%) x 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84904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% x 10 years x $10,000 = $1,000.0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95680"/>
            <a:ext cx="71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% ($10,000) – 0.5% ($8,000) x 10 year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- $40 x 10 = $1,60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3:30:17Z</dcterms:created>
  <dc:creator>lptdl</dc:creator>
  <dc:description/>
  <dc:language>en-US</dc:language>
  <cp:lastModifiedBy>lptdl</cp:lastModifiedBy>
  <dcterms:modified xsi:type="dcterms:W3CDTF">2005-12-16T04:27:23Z</dcterms:modified>
  <cp:revision>33</cp:revision>
  <dc:subject/>
  <dc:title>Pfizer Choice</dc:title>
</cp:coreProperties>
</file>